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EA30-F277-497D-ABA2-760EBB51C9DA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271C-6CA2-4B79-96D3-19C3CB707DB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44A2-83EF-4DD5-A4A4-2BCD2DDD2A0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E652-C2CE-4210-B8DF-A717F15DA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F6A7-F004-4BAC-B737-BB219A13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255C-B7E1-4291-8D35-790831935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E717-0C50-446C-8A91-04C5EF868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5CF0-C14D-4AC8-A468-A784D0E33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6FD6-89BB-46F1-A090-099F0915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80BD-45C9-442C-AFD3-236F8E34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3962-9714-4D58-86BA-0C6A45DE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99BC-EA7F-49F1-B919-C854B7ED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D838E-BACF-4AFD-8CAE-A3EE2BEF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2DE1-96B5-4E99-AC26-88F4950D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DE07-FAFB-413D-97FF-F6F990F3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0938-AA1B-4FEE-B342-7EC62917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129B-3B5E-4564-BDA2-AFA7AFE4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879C-14DB-4001-B1B1-A5F5F2B2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01592-71AD-485A-905F-958523129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C6085-6ED6-4CF4-8B20-7B8D1C670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70AA-0CE5-46DA-8FE9-9AD7A3A1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E5D5-403F-4116-A5D9-1D011C20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0287-E5CD-4542-B1F2-E30B6DEA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B76F-B881-47ED-837C-5DFD9DB7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54D3-D62F-469C-8B15-49AFE859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BF10-F1F4-4C41-A6A4-A5E02E06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6F2A-BD0B-479E-9FCC-0CE6E98D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B570-527B-4856-BB59-223FFCDB6497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29DC-C784-473B-9C9E-6ABE63846BA6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romanum.historicus.pl/rolnictwo_rzymskie.html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romanum.historicus.pl/niewolnicy_rzymscy.html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historion.pl/republika-rzymska-ustroj-polityczny/2/" TargetMode="External"/><Relationship Id="rId3" Type="http://schemas.openxmlformats.org/officeDocument/2006/relationships/hyperlink" Target="http://historion.pl/republika-rzymska-ustroj-polityczny/2/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romanum.historicus.pl/urzedy_rzymskie.html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artfolie.wordpress.com/tag/starozytny-rzym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romanum.historicus.pl/spoleczenstwo_rzymskie.html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jakoloruje.pl/rzymianin.ht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romanum.historicus.pl/ekwici.html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Civis Romanus – </a:t>
            </a:r>
            <a:br>
              <a:rPr sz="4900"/>
            </a:b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wzór obywatela w republice rzymskiej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Bartosz Rzoń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ołeczeństwo republiki rzymskiej w III/II w. p.n.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roletarius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zwa pochodzi od  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proles,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zyli potomstw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 posiadali niczego oprócz potomstw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bywatele, którzy nie posiadali ziem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eważnie zrujnowani rolnicy i rzemieślnicy oraz biedota rzyms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6" descr="C:\Users\Bartek\Downloads\Rolnik_rzymski.jpg"/>
          <p:cNvPicPr/>
          <p:nvPr/>
        </p:nvPicPr>
        <p:blipFill>
          <a:blip r:embed="rId1"/>
          <a:stretch/>
        </p:blipFill>
        <p:spPr>
          <a:xfrm>
            <a:off x="1042920" y="2565360"/>
            <a:ext cx="2857680" cy="2114640"/>
          </a:xfrm>
          <a:prstGeom prst="rect">
            <a:avLst/>
          </a:prstGeom>
          <a:ln w="0">
            <a:noFill/>
          </a:ln>
        </p:spPr>
      </p:pic>
      <p:sp>
        <p:nvSpPr>
          <p:cNvPr id="129" name="pole tekstowe 6"/>
          <p:cNvSpPr/>
          <p:nvPr/>
        </p:nvSpPr>
        <p:spPr>
          <a:xfrm>
            <a:off x="920880" y="4724280"/>
            <a:ext cx="2768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6 Rolnik rzymsk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romanum.historicus.pl/rolnictwo_rzymskie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ołeczeństwo Republiki Rzymskiej w III/II w. p.n.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Niewolni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wolnikiem zostawało się przez urodzenie, jako jeniec lub zdobycz wojen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wolnicy pracowali na roli, w kamieniołomach, byli rzemieślnikami, zarządcami majątków, lekarza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wolnik był traktowany, jak mówiąca rzec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C:\Users\Bartek\Downloads\rzymska_mozaika.jpg"/>
          <p:cNvPicPr/>
          <p:nvPr/>
        </p:nvPicPr>
        <p:blipFill>
          <a:blip r:embed="rId1"/>
          <a:stretch/>
        </p:blipFill>
        <p:spPr>
          <a:xfrm>
            <a:off x="4643280" y="2276640"/>
            <a:ext cx="4042080" cy="2923920"/>
          </a:xfrm>
          <a:prstGeom prst="rect">
            <a:avLst/>
          </a:prstGeom>
          <a:ln w="0">
            <a:noFill/>
          </a:ln>
        </p:spPr>
      </p:pic>
      <p:sp>
        <p:nvSpPr>
          <p:cNvPr id="134" name="pole tekstowe 7"/>
          <p:cNvSpPr/>
          <p:nvPr/>
        </p:nvSpPr>
        <p:spPr>
          <a:xfrm>
            <a:off x="4581360" y="5229360"/>
            <a:ext cx="41295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7 Rzymska mozaika ukazując dwóch niewolników przenoszącyc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słoiki wina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romanum.historicus.pl/niewolnicy_rzymscy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ołeczeństwo Republiki Rzymskiej w III/II w. p.n.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Obywatele rzyms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rodzeni z rodziców obywatelstwa rzymskie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skutek osiedlenia się w Rzymie (Latynowi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skutek wyzwole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skutek nadania lub kupienia obywatelstw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siadali pełnie praw  obywatelskich i publiczny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wyniku rozwoju terytorialnego i społeczeństwa rzymskiego obywatelstwo przyznawano coraz większym grupom mieszkańców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C:\Users\Bartek\Downloads\Senat-rzymski.jpg"/>
          <p:cNvPicPr/>
          <p:nvPr/>
        </p:nvPicPr>
        <p:blipFill>
          <a:blip r:embed="rId1"/>
          <a:stretch/>
        </p:blipFill>
        <p:spPr>
          <a:xfrm>
            <a:off x="1332000" y="1557360"/>
            <a:ext cx="6516720" cy="4064040"/>
          </a:xfrm>
          <a:prstGeom prst="rect">
            <a:avLst/>
          </a:prstGeom>
          <a:ln w="0">
            <a:noFill/>
          </a:ln>
        </p:spPr>
      </p:pic>
      <p:sp>
        <p:nvSpPr>
          <p:cNvPr id="141" name="pole tekstowe 9"/>
          <p:cNvSpPr/>
          <p:nvPr/>
        </p:nvSpPr>
        <p:spPr>
          <a:xfrm>
            <a:off x="1308240" y="5732640"/>
            <a:ext cx="288756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8 Senat rzymsk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historion.pl/republika-rzymska-ustroj-polityczny/2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Ogólne cechy republi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D:\scenariusze lekcji do przetargu\do realizacji\Civis Romanus\2\grafika\Rys_17_T07_2_cz_II_kuria_forum_romanum.jpg"/>
          <p:cNvPicPr/>
          <p:nvPr/>
        </p:nvPicPr>
        <p:blipFill>
          <a:blip r:embed="rId1"/>
          <a:stretch/>
        </p:blipFill>
        <p:spPr>
          <a:xfrm>
            <a:off x="755640" y="2276640"/>
            <a:ext cx="2755800" cy="36795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Calibri"/>
              </a:rPr>
              <a:t>Kolegialnoś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Calibri"/>
              </a:rPr>
              <a:t>Kadencyjnoś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ole tekstowe 5"/>
          <p:cNvSpPr/>
          <p:nvPr/>
        </p:nvSpPr>
        <p:spPr>
          <a:xfrm>
            <a:off x="460440" y="5950080"/>
            <a:ext cx="394056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7 Kuria na Forum Romanum – miejsce  obradowania senatu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http://romanum.historicus.pl/republika_rzymska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Zgromadzenia ludow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wane komicja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jwyższa władza prawodawcza i sądownicz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woływane raz na r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ecydowało o wojnie                     i pokoj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ybierało urzędnik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C:\Users\Bartek\Downloads\SPQR2.jpg"/>
          <p:cNvPicPr/>
          <p:nvPr/>
        </p:nvPicPr>
        <p:blipFill>
          <a:blip r:embed="rId1"/>
          <a:stretch/>
        </p:blipFill>
        <p:spPr>
          <a:xfrm>
            <a:off x="4643280" y="2421000"/>
            <a:ext cx="4042080" cy="2273400"/>
          </a:xfrm>
          <a:prstGeom prst="rect">
            <a:avLst/>
          </a:prstGeom>
          <a:ln w="0">
            <a:noFill/>
          </a:ln>
        </p:spPr>
      </p:pic>
      <p:sp>
        <p:nvSpPr>
          <p:cNvPr id="151" name="pole tekstowe 9"/>
          <p:cNvSpPr/>
          <p:nvPr/>
        </p:nvSpPr>
        <p:spPr>
          <a:xfrm>
            <a:off x="4587120" y="4797360"/>
            <a:ext cx="2739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9 SPQ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www.meh.ro/2013/04/07/spqr-flag-wallpaper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Sen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jwyższa władza polityczna i administracyj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owadził politykę zagraniczn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ydawał uchwał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łużył radą urzędnik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liczył ok. 300 osó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C:\Users\Bartek\Downloads\taquigrafos_tironianas_at_senatus.jpg"/>
          <p:cNvPicPr/>
          <p:nvPr/>
        </p:nvPicPr>
        <p:blipFill>
          <a:blip r:embed="rId1"/>
          <a:stretch/>
        </p:blipFill>
        <p:spPr>
          <a:xfrm>
            <a:off x="468360" y="3068640"/>
            <a:ext cx="4040280" cy="1643040"/>
          </a:xfrm>
          <a:prstGeom prst="rect">
            <a:avLst/>
          </a:prstGeom>
          <a:ln w="0">
            <a:noFill/>
          </a:ln>
        </p:spPr>
      </p:pic>
      <p:sp>
        <p:nvSpPr>
          <p:cNvPr id="156" name="pole tekstowe 7"/>
          <p:cNvSpPr/>
          <p:nvPr/>
        </p:nvSpPr>
        <p:spPr>
          <a:xfrm>
            <a:off x="421920" y="4797360"/>
            <a:ext cx="32882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0 Tachygrafowie w senacie rzymski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stenografia.pl/pmwiki/index.php?n=Historia.StarozytnyRzy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Urzędnicy - Kons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yło ich dwó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owódcy arm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woływali Zgromadzenia              i Sen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siadali inicjatywę ustawodawcz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ostawali namiestnikami najważniejszych prowincj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C:\Users\Bartek\Downloads\rzymskie_wojsko.jpg"/>
          <p:cNvPicPr/>
          <p:nvPr/>
        </p:nvPicPr>
        <p:blipFill>
          <a:blip r:embed="rId1"/>
          <a:stretch/>
        </p:blipFill>
        <p:spPr>
          <a:xfrm>
            <a:off x="4500720" y="2276640"/>
            <a:ext cx="4095720" cy="2736720"/>
          </a:xfrm>
          <a:prstGeom prst="rect">
            <a:avLst/>
          </a:prstGeom>
          <a:ln w="0">
            <a:noFill/>
          </a:ln>
        </p:spPr>
      </p:pic>
      <p:sp>
        <p:nvSpPr>
          <p:cNvPr id="161" name="pole tekstowe 7"/>
          <p:cNvSpPr/>
          <p:nvPr/>
        </p:nvSpPr>
        <p:spPr>
          <a:xfrm>
            <a:off x="4520520" y="5084640"/>
            <a:ext cx="26892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1 Rzymskie wojsk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www.romanglory.pun.pl/viewtopic.php?id=27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Urzędnicy - Pre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jmował się wymiarem sprawiedliwoś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owadził nadzór nad sądownictw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3" descr="C:\Users\Bartek\Downloads\pretor.jpg"/>
          <p:cNvPicPr/>
          <p:nvPr/>
        </p:nvPicPr>
        <p:blipFill>
          <a:blip r:embed="rId1"/>
          <a:stretch/>
        </p:blipFill>
        <p:spPr>
          <a:xfrm>
            <a:off x="468360" y="2708280"/>
            <a:ext cx="4040280" cy="2290680"/>
          </a:xfrm>
          <a:prstGeom prst="rect">
            <a:avLst/>
          </a:prstGeom>
          <a:ln w="0">
            <a:noFill/>
          </a:ln>
        </p:spPr>
      </p:pic>
      <p:sp>
        <p:nvSpPr>
          <p:cNvPr id="166" name="pole tekstowe 8"/>
          <p:cNvSpPr/>
          <p:nvPr/>
        </p:nvSpPr>
        <p:spPr>
          <a:xfrm>
            <a:off x="404640" y="5084640"/>
            <a:ext cx="33674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2 Preto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1100" spc="-1" strike="noStrike" u="sng">
                <a:solidFill>
                  <a:srgbClr val="000000"/>
                </a:solidFill>
                <a:uFillTx/>
                <a:latin typeface="Calibri"/>
              </a:rPr>
              <a:t>http://www.imperivm.org/articulos/pretor.htm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Urzędnicy - Cenz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wóch na 5 l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rząd pełnili najczęściej byli konsulow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porządzali spis obywateli wg. posiadanego mająt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stalali listy senator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dzorowali obycza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dzorowali finanse państw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C:\Users\Bartek\Downloads\pole_marsowe.jpg"/>
          <p:cNvPicPr/>
          <p:nvPr/>
        </p:nvPicPr>
        <p:blipFill>
          <a:blip r:embed="rId1"/>
          <a:stretch/>
        </p:blipFill>
        <p:spPr>
          <a:xfrm>
            <a:off x="5219640" y="2205000"/>
            <a:ext cx="2668680" cy="3311640"/>
          </a:xfrm>
          <a:prstGeom prst="rect">
            <a:avLst/>
          </a:prstGeom>
          <a:ln w="0">
            <a:noFill/>
          </a:ln>
        </p:spPr>
      </p:pic>
      <p:sp>
        <p:nvSpPr>
          <p:cNvPr id="171" name="pole tekstowe 7"/>
          <p:cNvSpPr/>
          <p:nvPr/>
        </p:nvSpPr>
        <p:spPr>
          <a:xfrm>
            <a:off x="5083200" y="5589720"/>
            <a:ext cx="380016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3 Pola Marsowe - tutaj stawiali się uprawnieni obywatele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do składania oświadczeń. Na ich podstawie cenzorzy mogl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dokonać spisu ludności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romanum.historicus.pl/cenzor_rzymski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epublika rzyms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połeczeństwo republiki rzymskie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Urzędnicy - Edylow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dzorowali porządek                 w mieśc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rganizowali dostawy zboża dla mias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ygotowywali                               i przewodniczyli igrzysk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C:\Users\Bartek\Downloads\walka_gladiatorow.jpg"/>
          <p:cNvPicPr/>
          <p:nvPr/>
        </p:nvPicPr>
        <p:blipFill>
          <a:blip r:embed="rId1"/>
          <a:stretch/>
        </p:blipFill>
        <p:spPr>
          <a:xfrm>
            <a:off x="611280" y="2133720"/>
            <a:ext cx="3618000" cy="3628800"/>
          </a:xfrm>
          <a:prstGeom prst="rect">
            <a:avLst/>
          </a:prstGeom>
          <a:ln w="0">
            <a:noFill/>
          </a:ln>
        </p:spPr>
      </p:pic>
      <p:sp>
        <p:nvSpPr>
          <p:cNvPr id="176" name="pole tekstowe 7"/>
          <p:cNvSpPr/>
          <p:nvPr/>
        </p:nvSpPr>
        <p:spPr>
          <a:xfrm>
            <a:off x="564840" y="5805360"/>
            <a:ext cx="3856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4 Mozaika przedstawiająca walkę gladiatorów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historia.newsweek.pl/gladiatorzy--celebryci-czasow-cezara,97809,1,1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Urzędnicy - Kwes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jniższy rangą urzędni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magał konsulom                       w zarządzaniu finansa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ostatnich latach republiki było ich 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2" descr="C:\Users\Bartek\Downloads\kwestor.jpg"/>
          <p:cNvPicPr/>
          <p:nvPr/>
        </p:nvPicPr>
        <p:blipFill>
          <a:blip r:embed="rId1"/>
          <a:stretch/>
        </p:blipFill>
        <p:spPr>
          <a:xfrm>
            <a:off x="5332320" y="2198520"/>
            <a:ext cx="2316240" cy="3391200"/>
          </a:xfrm>
          <a:prstGeom prst="rect">
            <a:avLst/>
          </a:prstGeom>
          <a:ln w="0">
            <a:noFill/>
          </a:ln>
        </p:spPr>
      </p:pic>
      <p:sp>
        <p:nvSpPr>
          <p:cNvPr id="181" name="pole tekstowe 7"/>
          <p:cNvSpPr/>
          <p:nvPr/>
        </p:nvSpPr>
        <p:spPr>
          <a:xfrm>
            <a:off x="5321880" y="5732640"/>
            <a:ext cx="34880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5 Kwesto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www.kolorowankimalowanki.pl/kolorowanki-asterix-i-obelix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Urzędnicy – Trybun Ludow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rząd przeznaczony dla plebejusz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brońca ludu rzymskie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siadał prawo veta dla usta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ył nietykal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siadał prawo zwoływania Zgromadzeń ludowy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2" descr="C:\Users\Bartek\Downloads\Gaius_Gracchus_trybun_ludowy.jpg"/>
          <p:cNvPicPr/>
          <p:nvPr/>
        </p:nvPicPr>
        <p:blipFill>
          <a:blip r:embed="rId1"/>
          <a:stretch/>
        </p:blipFill>
        <p:spPr>
          <a:xfrm>
            <a:off x="468360" y="2492280"/>
            <a:ext cx="4040280" cy="2562480"/>
          </a:xfrm>
          <a:prstGeom prst="rect">
            <a:avLst/>
          </a:prstGeom>
          <a:ln w="0">
            <a:noFill/>
          </a:ln>
        </p:spPr>
      </p:pic>
      <p:sp>
        <p:nvSpPr>
          <p:cNvPr id="186" name="pole tekstowe 7"/>
          <p:cNvSpPr/>
          <p:nvPr/>
        </p:nvSpPr>
        <p:spPr>
          <a:xfrm>
            <a:off x="414720" y="5157720"/>
            <a:ext cx="2750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6 Gajusz Grakchus, trybun ludow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romanum.historicus.pl/reformy_grakchow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Republika Rzymsk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epublika powstała w 509 r. p.n.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początkach Rzymu powstał wśród obywateli podział na dwie grupy:                                 patrycjuszy i plebejusz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ierwszy okres republiki, to walka                             o równouprawnienie pomiędzy patrycjuszami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 plebejuszam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Users\Bartek\Downloads\800px-Spqrstone.jpg"/>
          <p:cNvPicPr/>
          <p:nvPr/>
        </p:nvPicPr>
        <p:blipFill>
          <a:blip r:embed="rId1"/>
          <a:stretch/>
        </p:blipFill>
        <p:spPr>
          <a:xfrm>
            <a:off x="1052640" y="1341360"/>
            <a:ext cx="7038720" cy="3672000"/>
          </a:xfrm>
          <a:prstGeom prst="rect">
            <a:avLst/>
          </a:prstGeom>
          <a:ln w="0">
            <a:noFill/>
          </a:ln>
        </p:spPr>
      </p:pic>
      <p:sp>
        <p:nvSpPr>
          <p:cNvPr id="102" name="pole tekstowe 4"/>
          <p:cNvSpPr/>
          <p:nvPr/>
        </p:nvSpPr>
        <p:spPr>
          <a:xfrm>
            <a:off x="980640" y="5084640"/>
            <a:ext cx="685728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 Senatus Populusque Romanus, czyli "senat i lud/naród rzymski". Formuła ta stanowiła w starożytności oficjaln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nazwę Imperium Rzymskiego, a skrót SPQR, do czasu rozpowszechnienia się na to miejsce wizerunku orła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spełniał funkcję godła państwowego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romanum.historicus.pl/urzedy_rzymskie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ołeczeństwo republiki rzymski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atrycjus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d łacińskiego określenia 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patres,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czyli ojcie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przywilejowana warstwa społecz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siadali pełnię praw politycznyc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o pewnego momentu mieli wyłączność na obejmowanie urzęd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C:\Users\Bartek\Downloads\starozytny_ubior.jpg"/>
          <p:cNvPicPr/>
          <p:nvPr/>
        </p:nvPicPr>
        <p:blipFill>
          <a:blip r:embed="rId1"/>
          <a:stretch/>
        </p:blipFill>
        <p:spPr>
          <a:xfrm>
            <a:off x="4716360" y="220500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107" name="pole tekstowe 7"/>
          <p:cNvSpPr/>
          <p:nvPr/>
        </p:nvSpPr>
        <p:spPr>
          <a:xfrm>
            <a:off x="4879080" y="5084640"/>
            <a:ext cx="2648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2 Starożytny ubió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artfolie.wordpress.com/tag/starozytny-rzym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ołeczeństwo republiki rzymski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lebejus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d słowa 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plebs,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zyli lu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ywodzili się z ludów podbitych, ale byli wol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o pewnego momentu nie mieli praw obywatelski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ełnili służbę w wojsku (piechot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 czasem zaczęli się domagać wpływów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państw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C:\Users\Bartek\Downloads\plebejusze.jpg"/>
          <p:cNvPicPr/>
          <p:nvPr/>
        </p:nvPicPr>
        <p:blipFill>
          <a:blip r:embed="rId1"/>
          <a:stretch/>
        </p:blipFill>
        <p:spPr>
          <a:xfrm>
            <a:off x="611280" y="2421000"/>
            <a:ext cx="3809880" cy="2647800"/>
          </a:xfrm>
          <a:prstGeom prst="rect">
            <a:avLst/>
          </a:prstGeom>
          <a:ln w="0">
            <a:noFill/>
          </a:ln>
        </p:spPr>
      </p:pic>
      <p:sp>
        <p:nvSpPr>
          <p:cNvPr id="112" name="pole tekstowe 7"/>
          <p:cNvSpPr/>
          <p:nvPr/>
        </p:nvSpPr>
        <p:spPr>
          <a:xfrm>
            <a:off x="547920" y="5084640"/>
            <a:ext cx="3253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3 Fresk ścienny przedstawiający życie plebejusz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romanum.historicus.pl/spoleczenstwo_rzymskie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ołeczeństwo republiki rzymski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Między plebejuszami, a patrycjuszami od VI do III wieku p.n.e trwały walki o dostęp do ziem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jwiększymi zwycięstwami plebejuszy były: prawo dwunastu tablic z 449 roku p.n.e., zniesienie niewoli za długi i dostęp do wszystkich urzędó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wyniku zmian doszło do zlania się górnej warstwy plebejuszy z patrycjuszami. Zaczęła powstawać nowa arystokracja 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 nobilitas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(szlachetnie urodzen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ołeczeństwo republiki rzymskiej w III/II w. p.n.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atrycjusze/nobilow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łaściciele latyfundiów, wysocy urzędnicy, senatorz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25 rodzin m.in. Fabiusze, Klaudiusze, Emiliusze, Korneliusze z przydomkiem Scyp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C:\Users\Bartek\Downloads\rzymianin.jpg"/>
          <p:cNvPicPr/>
          <p:nvPr/>
        </p:nvPicPr>
        <p:blipFill>
          <a:blip r:embed="rId1"/>
          <a:stretch/>
        </p:blipFill>
        <p:spPr>
          <a:xfrm>
            <a:off x="5184720" y="2174760"/>
            <a:ext cx="2482920" cy="3311640"/>
          </a:xfrm>
          <a:prstGeom prst="rect">
            <a:avLst/>
          </a:prstGeom>
          <a:ln w="0">
            <a:noFill/>
          </a:ln>
        </p:spPr>
      </p:pic>
      <p:sp>
        <p:nvSpPr>
          <p:cNvPr id="119" name="pole tekstowe 8"/>
          <p:cNvSpPr/>
          <p:nvPr/>
        </p:nvSpPr>
        <p:spPr>
          <a:xfrm>
            <a:off x="5235840" y="5516640"/>
            <a:ext cx="21740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4 Rzymiani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jakoloruje.pl/rzymianin.ht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ołeczeństwo republiki rzymskiej w III/II w. p.n.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Ekwi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zwa tego stanu wywodzi się od 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equus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czyli "koń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ywodzili się z elitarnych jednostek jazdy w legion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yli wpływową i zamożną grupą właścicieli ziemskich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przedsiębiorc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zięki udziałom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podbojach uzyskali wpływy i stali się osobną warstwą społeczn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C:\Users\Bartek\Downloads\mlody_ekwita.jpg"/>
          <p:cNvPicPr/>
          <p:nvPr/>
        </p:nvPicPr>
        <p:blipFill>
          <a:blip r:embed="rId1"/>
          <a:stretch/>
        </p:blipFill>
        <p:spPr>
          <a:xfrm>
            <a:off x="5364000" y="1844640"/>
            <a:ext cx="2540160" cy="3492360"/>
          </a:xfrm>
          <a:prstGeom prst="rect">
            <a:avLst/>
          </a:prstGeom>
          <a:ln w="0">
            <a:noFill/>
          </a:ln>
        </p:spPr>
      </p:pic>
      <p:sp>
        <p:nvSpPr>
          <p:cNvPr id="124" name="pole tekstowe 7"/>
          <p:cNvSpPr/>
          <p:nvPr/>
        </p:nvSpPr>
        <p:spPr>
          <a:xfrm>
            <a:off x="5310000" y="5373720"/>
            <a:ext cx="222444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5 Młody ekwit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romanum.historicus.pl/ekwici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Bartek</cp:lastModifiedBy>
  <dcterms:modified xsi:type="dcterms:W3CDTF">2013-07-11T13:10:14Z</dcterms:modified>
  <cp:revision>60</cp:revision>
  <dc:subject/>
  <dc:title>Slajd 1</dc:title>
</cp:coreProperties>
</file>